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E1B9-66FC-46C3-A8E1-6920D43CD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568E-04B4-4C27-A1F4-3449892EA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54B6-05EF-416A-8523-1EC754AE8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FE0E-0D20-488C-B3E2-7577BF8CB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905E-8C00-42D1-BEEF-14729852F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0846-9C36-459F-90CD-1CA959DCD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EE0F-6F30-4198-87C1-D517658C2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99C2-C495-489F-BEB8-7C7618686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0868-B566-48FD-A711-F3DD3A5B8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F43B-EF3C-45CC-8522-3C982050D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E7A0-49A8-4ABD-8444-063B26832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D8A4-0861-40E2-BDD5-2455C5B1F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D619-4D18-4E2D-AD53-255BBF13C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F1A4-EBD4-4EF1-95D7-0DA3D670A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F95A-8022-4D1E-8393-FB7C9945E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C3E2-8DA7-42FE-AAA4-04022F06E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C4A1-987F-48BC-8177-333E48917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8013B-8A1B-4590-BA7C-BB1ED26CD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44F7-2DCE-48FD-A264-D5ED090D6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D0947-A349-4215-9F4B-77101FEA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E2F4-46B1-43BF-8373-EB8906D03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4FCC7-B98C-4BCC-A60D-3B2DC48F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B97BB-4FAB-4A27-8A63-8C5A3C00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C565-A17D-44AE-A336-BEDF66B2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F30F-B658-4741-BB33-0E9026D5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28D2-6F22-40B1-90A5-155C2B60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3AA9-C895-4EBA-A46F-20293941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54BD-0DAA-48CB-B3E5-12D4095C6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38C8-28CD-48FB-BEC3-C0992A52A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DFEE-32AD-4FD1-B261-2D62E6D083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Beyond the Basal: Reader’s Workshop</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29, 2010</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85"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93"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libraries/readingk2/pursley/index.html#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Reading: K-2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00)</a:t>
            </a:r>
            <a:endParaRPr b="0" lang="en-US" sz="32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grouping formats does the teacher hav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as the “minilesson”</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id the teacher transition the students?</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during the confere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mplete the Venn Diagram as you view</a:t>
            </a:r>
            <a:endParaRPr b="0" lang="en-US" sz="28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Reader’s Workshop</a:t>
            </a:r>
            <a:endParaRPr b="0" lang="en-US" sz="4400" spc="-1" strike="noStrike">
              <a:solidFill>
                <a:srgbClr val="000000"/>
              </a:solidFill>
              <a:latin typeface="Calibri"/>
            </a:endParaRPr>
          </a:p>
        </p:txBody>
      </p:sp>
      <p:sp>
        <p:nvSpPr>
          <p:cNvPr id="97" name=""/>
          <p:cNvSpPr txBox="1"/>
          <p:nvPr/>
        </p:nvSpPr>
        <p:spPr>
          <a:xfrm>
            <a:off x="2437920" y="914400"/>
            <a:ext cx="6705720" cy="54100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 Poems  Readwritethink.org </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 Work</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caroo</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Reading Group </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 Found Poem</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a character analysis</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 Reading Response from the list (Doodle Splash, Character Chart, Diary Entry, Story Map, Connections, Chart, Compare/Contrast</a:t>
            </a:r>
            <a:endParaRPr b="0" lang="en-US" sz="2000" spc="-1" strike="noStrike">
              <a:solidFill>
                <a:srgbClr val="000000"/>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ding Meeting (share what you did)</a:t>
            </a:r>
            <a:endParaRPr b="0" lang="en-US" sz="24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01" name=""/>
          <p:cNvSpPr txBox="1"/>
          <p:nvPr/>
        </p:nvSpPr>
        <p:spPr>
          <a:xfrm>
            <a:off x="2057040" y="1219320"/>
            <a:ext cx="7086600" cy="533376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icitly teach the expected behaviors and routines of Reader’s Workshop. The first minilessons should focus 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ove around the room during reader’s workshop (how to come together as a group, where you can read during independent reading tim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treat books and other reading materials (audio tapes, computers, etc.)</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ing how to have conversations about book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ng “just right” book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use the classroom librar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and how to care for materials (highlighters, post-it notes, writing materials, art materials)</a:t>
            </a:r>
            <a:endParaRPr b="0" lang="en-US" sz="24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32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Variety of Texts</a:t>
            </a:r>
            <a:endParaRPr b="0" lang="en-US" sz="4400" spc="-1" strike="noStrike">
              <a:solidFill>
                <a:srgbClr val="000000"/>
              </a:solidFill>
              <a:latin typeface="Calibri"/>
            </a:endParaRPr>
          </a:p>
        </p:txBody>
      </p:sp>
      <p:sp>
        <p:nvSpPr>
          <p:cNvPr id="105" name=""/>
          <p:cNvSpPr txBox="1"/>
          <p:nvPr/>
        </p:nvSpPr>
        <p:spPr>
          <a:xfrm>
            <a:off x="2971800" y="914040"/>
            <a:ext cx="594360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n-US" sz="3600" spc="-1" strike="noStrike">
                <a:solidFill>
                  <a:srgbClr val="000000"/>
                </a:solidFill>
                <a:latin typeface="Calibri"/>
              </a:rPr>
              <a:t>Provide a Variety of Ways to Respond to Text</a:t>
            </a:r>
            <a:br>
              <a:rPr sz="4000"/>
            </a:br>
            <a:endParaRPr b="0" lang="en-US" sz="3600" spc="-1" strike="noStrike">
              <a:solidFill>
                <a:srgbClr val="000000"/>
              </a:solidFill>
              <a:latin typeface="Calibri"/>
            </a:endParaRPr>
          </a:p>
        </p:txBody>
      </p:sp>
      <p:sp>
        <p:nvSpPr>
          <p:cNvPr id="109" name=""/>
          <p:cNvSpPr txBox="1"/>
          <p:nvPr/>
        </p:nvSpPr>
        <p:spPr>
          <a:xfrm>
            <a:off x="2971440" y="1600200"/>
            <a:ext cx="57150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response to texts do not have to be writt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er’s Workshop is a great opportunity to differentiate. Students have “different ways knowing” and can show their responses to texts through art, music, drama, etc.</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Comprehension Instruction in our Classro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 Quiz</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qui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this tell us about comprehen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 what does this mean for comprehension instru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comprehension instruction and materials available to  you in your classroom, complete the chart.</a:t>
            </a:r>
            <a:endParaRPr b="0" lang="en-US" sz="32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 good reader’s do?</a:t>
            </a:r>
            <a:endParaRPr b="0" lang="en-US" sz="40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e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69"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73"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81"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 </dc:creator>
  <dc:description/>
  <dc:language>en-US</dc:language>
  <cp:lastModifiedBy>Authorized User</cp:lastModifiedBy>
  <dcterms:modified xsi:type="dcterms:W3CDTF">2010-06-29T19:43:24Z</dcterms:modified>
  <cp:revision>57</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